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3306-34B0-485A-B6E7-112DFB456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0FE0-0A04-472D-B112-D9934C83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7663-9949-494A-ACC2-788D6AEC0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3E06-0818-4B6B-B99A-323BB79E9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79E7-14A6-4938-B782-4A278384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3A8D-4CB5-4046-A151-4B0E3FB0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4911-A36C-4E99-9EC5-27483BFA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F424-A1D5-40F9-A521-2B287321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FA31-0821-4EB2-B0F4-5C2C02F8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4CD5-42E6-4B45-9866-806C910F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8AE5-B48D-4CD8-9D0C-6D1CCDEF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7CFD-7DAE-4A68-861E-78844FF1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37CC-F11D-421F-BDFA-B21F406C9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10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1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1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1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1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1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8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9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7:24:05Z</dcterms:created>
  <dc:creator> </dc:creator>
  <dc:description/>
  <dc:language>en-US</dc:language>
  <cp:lastModifiedBy> </cp:lastModifiedBy>
  <dcterms:modified xsi:type="dcterms:W3CDTF">2009-03-03T17:24:20Z</dcterms:modified>
  <cp:revision>1</cp:revision>
  <dc:subject/>
  <dc:title>Slide 1</dc:title>
</cp:coreProperties>
</file>